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656332-D0AE-4081-98A2-E0FE4B4429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080797-F0CD-4897-A1E9-076FBAC394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3610-3EDF-4C8B-A07F-D3D696DFC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2B67-3DC4-4D56-9FAA-F1CB53FF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A6E2-2D2F-4711-B7B1-45BFC1A84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3415-C55C-41D7-B8D1-2ACC0AF0A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752A-32D3-44B4-AB57-85B30CB5B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3AD4-03B7-474D-A54C-8BAAA63F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5F7E-D207-4CA1-AA34-E57FF549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0A77-C99E-4955-A239-79EB0A7E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30E8-32BB-4445-B97D-C3389ED0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D8A3-68F1-4E24-B7D7-5BB7413B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4D9D-C423-4D94-B97D-E396F6E1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FCF8-5525-47A4-BB47-3D5E11CF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DC52-E7FD-4715-9035-3DE2B53E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1CBB-A657-41BF-A421-DED4ED2A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FB36-31EE-46E3-97E0-AB22D9A4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9DC0-3E25-416A-8916-CCD4596A3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4575-9589-4D89-A284-E27C685AE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B1C2E-4914-4312-BB7D-0BF24BEF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C952A-4E0D-4196-B454-8B4ADFE8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0CEF1-F109-4158-9F32-CFBBF297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18FFA-8354-4DCD-B3C4-24D2B3DF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EB1F1-9017-4495-A418-374D145D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7C45-871E-4895-AF54-F605DC01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28824-B997-479E-8D50-B7D33D4C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DD69F-7EB3-46B7-9C29-9291D714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09A0F-F63F-4D6B-8CA1-5F181C4A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5016C-DB28-4E57-A6C2-509E7FC8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89AC4-C48D-4A3C-9B2E-3D7A9BEC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E9D3B-24B0-4D9E-A52D-7A6216FF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81721-07EF-4EF9-85A1-A67C7FD94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07538-17FB-4989-B320-D2D9BFDA8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E4341-27BF-4157-B2C6-A0AC1CC8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99B22-2FCF-40E7-BE94-E99A5F28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C9D6-1ED0-4F36-B9CE-4A1359D3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92AA6-98A7-4665-8944-EAAF6A2F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DC097-24BE-417D-9615-CAA18FB1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2A35B-FFDB-4175-B59C-02681E41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1B388-7542-48F2-B87C-1B3F8AAB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1ABAD-3AD9-4B86-B7EF-F8B66C28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2BA1F-61F8-4A97-B587-9FF8C874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E93F7-0C67-4D73-B7E2-3CE29603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C44A6-224F-4837-A3E3-A36682ED9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B96E0-A34F-4BF7-AB90-CEDB5EE2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B75EA-C304-4835-83AC-FDE12FC1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C576-D835-4CFA-A43C-AD28F7CD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FA90C-213B-4D14-8A9B-F9933E4E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DF10F-84A5-4088-A78C-6E298920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4DDCB-2355-409E-8D5C-783DECFF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33D0A-3EA9-472D-8D5F-E0107A9E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D7E51-BEB1-4DDE-8EF2-B0031334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A7D43-C8DF-45DE-89D4-FEF88EDF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40FCF-528C-4993-AF2D-6743EA77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5B749-FC1C-44E0-83A2-A5881E6D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76537-346C-4EAD-85AE-A833ED43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CC975-DB55-4F0B-B534-2996E2554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4FD1-DC32-4E5B-8749-332A5333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0899F-E559-40A9-B00F-B966144F2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3DED9-4FB1-449D-B580-852B5D4C4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C15F1-49D8-4770-BF80-22CF1F41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5C01C-E46B-4771-890E-62D1C031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E03DE-8663-4779-AAE9-55ACEF41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D684D-2CF4-4F62-AB25-360A095E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49BE7-8F8C-4A33-BC83-A343A357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FE483-34A4-49F5-8D11-73B9B976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2C893-54C7-42FC-9414-242A8315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3FC5E-8FE7-48CE-BB5E-F878F773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61A8-0F31-4318-A762-CD11A100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912AB-85CF-4358-953B-44FC37F7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E1E91-DB84-42F2-B0AC-3B38E6DC0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856AE-F975-4E0A-8D2D-2B8AA2F46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67361-827F-42EA-A9C6-B17570C17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277C7-D67C-456F-A89F-F2BC9270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6714C-8715-4160-8B12-CFEED559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CC0FB-EA51-45F1-AE76-4823181C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04340-75BA-43F3-ACF6-09395574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C0623-9DB6-495A-ABCB-F70FE538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A9D91-8239-4BC0-ABC8-DA315E46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45EE-19A8-4166-904C-F97EDE87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95646-1DD3-41EB-85AD-B188EA14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78C46-1546-45E2-B544-0A605FAE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C4FB7-C002-40E9-A616-228258FA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30363-6768-45CD-A188-87FE79E02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A7CDA-2777-4ACB-A1F1-44790AF47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DA6A-69DE-468C-AF97-8F12CBBE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A88B3B-DBD4-45DD-91CF-21D5D109462D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8A6A18-F5BF-4D86-A414-0AAF24DBEB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376DC3-554B-47DC-B2F5-EF294205E2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BD7B06-149D-4E7B-8B68-084401F74750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97177A-EDBA-40FE-8B4E-B3A58D340E0E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B9E7D4-28B4-4493-81FB-67EA9542FA3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2AED8F-253C-46DB-B802-9597A81E794B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682560" y="3352680"/>
            <a:ext cx="8083440" cy="167652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PUSH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-360" y="1520640"/>
            <a:ext cx="4995720" cy="46256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2000"/>
          </a:bodyPr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Jane Addams &amp; Hull House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Idea that poverty and criminality were products of an unhealthy environment (opposite of social Darwinism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ttlement houses provided help to immigrant families (language, customs, etc of America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2"/>
          <a:stretch/>
        </p:blipFill>
        <p:spPr>
          <a:xfrm>
            <a:off x="5207040" y="1538280"/>
            <a:ext cx="393696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Goals: Government should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942480" indent="-498960">
              <a:spcBef>
                <a:spcPts val="876"/>
              </a:spcBef>
              <a:buClr>
                <a:srgbClr val="60b5cc"/>
              </a:buClr>
              <a:buSzPct val="90000"/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Assure more democracy in government 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942480" indent="-498960">
              <a:spcBef>
                <a:spcPts val="876"/>
              </a:spcBef>
              <a:buClr>
                <a:srgbClr val="60b5cc"/>
              </a:buClr>
              <a:buSzPct val="90000"/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Be more accountable to its citizen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942480" indent="-498960">
              <a:spcBef>
                <a:spcPts val="876"/>
              </a:spcBef>
              <a:buClr>
                <a:srgbClr val="60b5cc"/>
              </a:buClr>
              <a:buSzPct val="90000"/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Reduce the power of wealthy 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942480" indent="-498960">
              <a:spcBef>
                <a:spcPts val="876"/>
              </a:spcBef>
              <a:buClr>
                <a:srgbClr val="60b5cc"/>
              </a:buClr>
              <a:buSzPct val="90000"/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Become more efficient and less corrup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942480" indent="-498960">
              <a:spcBef>
                <a:spcPts val="8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631800" indent="-514440">
              <a:buClr>
                <a:srgbClr val="f0ad00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Improving the working conditions of factory laborer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631800" indent="-514440">
              <a:buClr>
                <a:srgbClr val="f0ad00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ghting corruption in municipal government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631800" indent="-514440">
              <a:buClr>
                <a:srgbClr val="f0ad00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Protecting the interests of consumer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631800" indent="-514440">
              <a:buClr>
                <a:srgbClr val="f0ad00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Making government more directly responsible to the electorate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-360" y="1774800"/>
            <a:ext cx="903132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2000"/>
          </a:bodyPr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fined as writers who played a key role in alerting the public to wrongdoing in politics and busine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The Jungle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– meatpacking industry in Chicago by Upton Sinclai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The Octopus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– railroads and farmers (Frank Norri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The Shame of the Cities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– corrupt urban charities by Lincoln Steffe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The Bitter Cry of the Children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– use of child labor (John Spargo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287280" y="1525320"/>
            <a:ext cx="8229600" cy="2313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3000"/>
          </a:bodyPr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amous Author - journalist and photographer who publicized the wretched conditions in which many immigrants lived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rbel"/>
              </a:rPr>
              <a:t>How the Other Half Live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3" descr=""/>
          <p:cNvPicPr/>
          <p:nvPr/>
        </p:nvPicPr>
        <p:blipFill>
          <a:blip r:embed="rId2"/>
          <a:stretch/>
        </p:blipFill>
        <p:spPr>
          <a:xfrm>
            <a:off x="5319720" y="3838680"/>
            <a:ext cx="3824280" cy="30193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5" descr=""/>
          <p:cNvPicPr/>
          <p:nvPr/>
        </p:nvPicPr>
        <p:blipFill>
          <a:blip r:embed="rId3"/>
          <a:stretch/>
        </p:blipFill>
        <p:spPr>
          <a:xfrm>
            <a:off x="1044720" y="3833640"/>
            <a:ext cx="4275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gressive reformers rejected Social Darwinism because they believed that conflict and competition did not necessarily improve societ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reak from previous era of big busine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ost influential advocate of full political, economic, and social equality for Black America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AACP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3" descr=""/>
          <p:cNvPicPr/>
          <p:nvPr/>
        </p:nvPicPr>
        <p:blipFill>
          <a:blip r:embed="rId2"/>
          <a:stretch/>
        </p:blipFill>
        <p:spPr>
          <a:xfrm>
            <a:off x="3795840" y="3498840"/>
            <a:ext cx="5348160" cy="33591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"/>
          <p:cNvPicPr/>
          <p:nvPr/>
        </p:nvPicPr>
        <p:blipFill>
          <a:blip r:embed="rId3"/>
          <a:stretch/>
        </p:blipFill>
        <p:spPr>
          <a:xfrm>
            <a:off x="150840" y="3902040"/>
            <a:ext cx="364500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2000"/>
          </a:bodyPr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1) Mowry-Hofstadter Thesis- idea that progressives were suffering from psychological (not economic) discont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2) Progressive reform was about reforming big busine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3) Progressivism was a result of dislocations in American life; rapid changes occurred in the economy but no corresponding changes in social and political institutions. Economic ($) Power moved to big business, but social/political life remained centered in local communities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resulted in the panic and disorder of the 1890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-360" y="1407600"/>
            <a:ext cx="5559480" cy="5450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5000"/>
          </a:bodyPr>
          <a:p>
            <a:pPr marL="416160" indent="-3027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1) </a:t>
            </a: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Working Class&amp; Immigrants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- seeking workmen’s compensation, wage and hour laws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2) </a:t>
            </a: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Common people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against special interests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3) </a:t>
            </a: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Decline of political parties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and rise of interest groups working for specific economic interests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4) </a:t>
            </a: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Women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- protecting their domestic role in an ever-increasing industrial world (temperance, divorce, prostitution, labor laws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Picture 3" descr=""/>
          <p:cNvPicPr/>
          <p:nvPr/>
        </p:nvPicPr>
        <p:blipFill>
          <a:blip r:embed="rId2"/>
          <a:stretch/>
        </p:blipFill>
        <p:spPr>
          <a:xfrm>
            <a:off x="5559480" y="4600440"/>
            <a:ext cx="3570120" cy="22575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" descr=""/>
          <p:cNvPicPr/>
          <p:nvPr/>
        </p:nvPicPr>
        <p:blipFill>
          <a:blip r:embed="rId3"/>
          <a:stretch/>
        </p:blipFill>
        <p:spPr>
          <a:xfrm>
            <a:off x="5559480" y="1720800"/>
            <a:ext cx="352728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2T13:11:44Z</dcterms:created>
  <dc:creator>Mark Scacewater</dc:creator>
  <dc:description/>
  <dc:language>en-US</dc:language>
  <cp:lastModifiedBy>Mark Scacewater</cp:lastModifiedBy>
  <dcterms:modified xsi:type="dcterms:W3CDTF">2012-08-02T19:08:39Z</dcterms:modified>
  <cp:revision>12</cp:revision>
  <dc:subject/>
  <dc:title>Progressivism</dc:title>
</cp:coreProperties>
</file>